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917-3ADE-4A93-8C61-B99082AC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E0E0-0DB3-4F1F-8CCD-B4CC569B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5C2E-D85B-4656-9EDA-AEF7B078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FF1-DAA9-4FE2-980B-1634EA56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3F7A-0CAE-4784-810C-34FC4A23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EE53-2CA9-4089-AA61-A37273DF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94FF-5C42-4E92-9A2B-62EDAA1F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ED79-8F28-4CA1-A623-08A480A7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1A90-6054-473C-936C-EA18C20B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52E7-41F7-4377-9A4F-FA5C38E5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87CB-3F2F-462B-8038-5790633C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191-3A89-4C16-97D6-6C830D82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622B-A798-4D72-BCFB-F153F3B9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C092-938E-422E-828E-2EB2BAD5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8561-4635-4B07-9345-2467A718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BD9D-0671-4AFA-A67A-8ED098CD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A7C6-D55B-4722-AF7B-ADB8704C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A25-86D5-4C19-9C3C-09228197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5C1-B5D0-4231-B217-476FB31C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E787-293E-4C8E-8F08-361CA257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932-065E-414B-9369-945F4482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76F7-EC04-4097-8769-1C51FFF5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483-6D90-48F0-8FE4-BC39F7A4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0CD-6A69-4533-9EED-196DA594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AD88-A6BA-4C51-B3B0-6B5D20EEDCD4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0E95-D22B-448F-A140-8F27109D517A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d2204"/>
                </a:solidFill>
                <a:latin typeface="Arial"/>
              </a:rPr>
              <a:t>Support – Instructional</a:t>
            </a:r>
            <a:endParaRPr b="0" lang="en-US" sz="36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d2204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440" y="11430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Using Help Menus to Support Others Use Technology Effectively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learned how to use help menus to help others become more independent using technology.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share some great strategies you used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you do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a good tool to help others use technology effectively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I support others in becoming more independent using technology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Your teachers and friends often get stuck when trying to figure things out in different applications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Your job is to help them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oday we will discover a tool you can use to help them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take a look at using the help menu to show others how to help themselv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atch me as I use the help menu to animate tex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Now it is your turn to try it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are some interesting features someone might want to use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518148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ich one should we try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_________________________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you and a partner are going to practice showing others how to use the “Help” menu so they can work independently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en the 20 minutes are up, we will come back together and share what you’ve found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9212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Step 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1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Talk to your partner about interesting features you’ve used.</a:t>
            </a: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marL="9212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Step 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2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Select one student to play the iSquad member and the other to play a teacher needing help.</a:t>
            </a: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marL="9212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Step 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3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The teacher needing help will ask the iSquader for help and the iSquader will assist.</a:t>
            </a: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marL="9212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Step 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4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The iSquader will help the teacher to use the requested feature. </a:t>
            </a: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marL="9212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Step 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5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Select another feature and reverse roles.</a:t>
            </a: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marL="9212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Step 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6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If you have time continue with other features reversing roles after each feature is explained.</a:t>
            </a:r>
            <a:r>
              <a:rPr b="0" lang="en-US" sz="25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560" y="6019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212164"/>
                </a:solidFill>
                <a:latin typeface="Arial"/>
              </a:rPr>
              <a:t>(Note: remember not to touch anyone else’s computer. You can demonstrate or explain, but it is important that the person you are helping does this on their own.)</a:t>
            </a:r>
            <a:endParaRPr b="0" lang="en-US" sz="17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IT</cp:lastModifiedBy>
  <dcterms:modified xsi:type="dcterms:W3CDTF">2007-02-08T01:43:20Z</dcterms:modified>
  <cp:revision>3</cp:revision>
  <dc:subject/>
  <dc:title>Workshop Title</dc:title>
</cp:coreProperties>
</file>